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C9F-2D1C-4C58-9AC5-E949EEE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259-D9BA-4D24-B838-BA92B1F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975-D092-4615-9F41-8751D4BC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B5C-3EAE-4FAA-84E6-4EAF1E16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13A9-1D4B-4DDF-A132-79AAC690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BE1-E92C-4BAE-82CE-122C296E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E1DF-BBE9-4B43-89FC-7657E891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2EE0-DB1C-4E5A-A7D7-83EAAB7B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3B6-C3CB-4E91-B1FE-049D6EC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DF80-D1FD-463A-B2AB-4C63FE65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7C3B-B866-4A34-A5FB-8A74DDCD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2E5-66FD-4229-B2A5-A3785B4D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900-915E-4140-9556-643CD34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CF54-F578-4F2B-8EBB-7AB0A0A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833C-9487-43E3-8408-443FF018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8EFB-6D89-4FBD-B0A2-6DE57927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37BF-A4B5-410A-9BD8-53D7D858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668-3517-40CF-9167-60374457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3EC-5155-4794-A539-29EF9F7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744-FCEC-4CF3-A8AB-8971D516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0F1-B85D-4A52-AD4C-225F3B3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06A-F063-493F-BE5C-85140BC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599-7FCC-4BC2-BD18-0EFB46F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9A3-AD7C-484C-915A-9BE04BB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384-A0C0-4C28-96A5-F4182268E06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E285-A486-4931-AC8B-2F1FA663E2C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en/5/5d/SteamTractor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b/Heat_affected_crop_during_a_green_drought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Fields_outside_benambra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2:  Farmers and th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eat Plai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Land Rush"/>
          <p:cNvPicPr/>
          <p:nvPr/>
        </p:nvPicPr>
        <p:blipFill>
          <a:blip r:embed="rId2"/>
          <a:stretch/>
        </p:blipFill>
        <p:spPr>
          <a:xfrm>
            <a:off x="228600" y="1176480"/>
            <a:ext cx="8763120" cy="5402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nd Rush” &amp; “Sooners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oners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" y="1044720"/>
            <a:ext cx="769608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.  The Wheat Belt &amp; Innovation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1.  McCormick Reaper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7" name="" descr="Mccormick Reaper, circa 1848"/>
          <p:cNvPicPr/>
          <p:nvPr/>
        </p:nvPicPr>
        <p:blipFill>
          <a:blip r:embed="rId3"/>
          <a:stretch/>
        </p:blipFill>
        <p:spPr>
          <a:xfrm>
            <a:off x="1066680" y="1143000"/>
            <a:ext cx="74678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 Steam Trac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9" name="" descr="File:SteamTracto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20574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 Bonanza Fa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gle cro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0,000 acres or mo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undred of men for lab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3" name="" descr="Photo of harvesting on a bonanza farm: men and machines."/>
          <p:cNvPicPr/>
          <p:nvPr/>
        </p:nvPicPr>
        <p:blipFill>
          <a:blip r:embed="rId2"/>
          <a:stretch/>
        </p:blipFill>
        <p:spPr>
          <a:xfrm>
            <a:off x="3352680" y="1714680"/>
            <a:ext cx="57913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 Dry far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5" name="" descr="File:Heat affected crop during a green drough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2089080"/>
            <a:ext cx="72388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.  Hard Times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880’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rough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ernational competi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.  Wheat surplus =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9" name="" descr="File:Fields outside benambr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097080"/>
            <a:ext cx="9144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armers debt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chines expens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icious cycle: bad weather, more land, more machines, more deb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R shipping fe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241880" y="2129400"/>
            <a:ext cx="4623120" cy="4005360"/>
            <a:chOff x="4241880" y="2129400"/>
            <a:chExt cx="4623120" cy="4005360"/>
          </a:xfrm>
        </p:grpSpPr>
        <p:sp>
          <p:nvSpPr>
            <p:cNvPr id="183" name="_s27657"/>
            <p:cNvSpPr/>
            <p:nvPr/>
          </p:nvSpPr>
          <p:spPr>
            <a:xfrm>
              <a:off x="5142960" y="2129400"/>
              <a:ext cx="2820240" cy="2819880"/>
            </a:xfrm>
            <a:custGeom>
              <a:avLst/>
              <a:gdLst>
                <a:gd name="textAreaLeft" fmla="*/ 0 w 2820240"/>
                <a:gd name="textAreaRight" fmla="*/ 2820600 w 282024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_s27658"/>
            <p:cNvSpPr/>
            <p:nvPr/>
          </p:nvSpPr>
          <p:spPr>
            <a:xfrm rot="7200000">
              <a:off x="5528880" y="2795760"/>
              <a:ext cx="2819880" cy="281988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_s27660"/>
            <p:cNvSpPr/>
            <p:nvPr/>
          </p:nvSpPr>
          <p:spPr>
            <a:xfrm rot="14400000">
              <a:off x="4757760" y="2798280"/>
              <a:ext cx="2819880" cy="282024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820240"/>
                <a:gd name="textAreaBottom" fmla="*/ 2820600 h 28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_s27655"/>
            <p:cNvSpPr/>
            <p:nvPr/>
          </p:nvSpPr>
          <p:spPr>
            <a:xfrm>
              <a:off x="7326360" y="2645640"/>
              <a:ext cx="11314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Bad harvest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_s27656"/>
            <p:cNvSpPr/>
            <p:nvPr/>
          </p:nvSpPr>
          <p:spPr>
            <a:xfrm>
              <a:off x="5987160" y="4963680"/>
              <a:ext cx="11314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Purchase more land to 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Recoup some loss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_s27659"/>
            <p:cNvSpPr/>
            <p:nvPr/>
          </p:nvSpPr>
          <p:spPr>
            <a:xfrm>
              <a:off x="4648320" y="2645640"/>
              <a:ext cx="11314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More equipment is needed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To properly harvest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irst impressions:uninhabitable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" descr="Wagon Train Along the Oregon Trail"/>
          <p:cNvPicPr/>
          <p:nvPr/>
        </p:nvPicPr>
        <p:blipFill>
          <a:blip r:embed="rId2"/>
          <a:stretch/>
        </p:blipFill>
        <p:spPr>
          <a:xfrm>
            <a:off x="762120" y="852480"/>
            <a:ext cx="77342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ugou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116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" descr="John Kurnicki root cellar of Finnish type, St. Louis County."/>
          <p:cNvPicPr/>
          <p:nvPr/>
        </p:nvPicPr>
        <p:blipFill>
          <a:blip r:embed="rId2"/>
          <a:stretch/>
        </p:blipFill>
        <p:spPr>
          <a:xfrm>
            <a:off x="1600200" y="1981080"/>
            <a:ext cx="63244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533600"/>
            <a:ext cx="8458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dd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73915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Frontier Family Outside Their Sod Home"/>
          <p:cNvPicPr/>
          <p:nvPr/>
        </p:nvPicPr>
        <p:blipFill>
          <a:blip r:embed="rId2"/>
          <a:stretch/>
        </p:blipFill>
        <p:spPr>
          <a:xfrm>
            <a:off x="914400" y="476280"/>
            <a:ext cx="7467480" cy="5402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9480" y="371520"/>
            <a:ext cx="79250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.  Homestead Act of 186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60 acr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5 yrs cultivation(take care of i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nd for farming was ba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ption of purchasing it at $1.25 acre after 6 month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.  Difficult Liv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e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carcity of water = we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airie fir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warms of grasshopp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lizzards and extreme co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22T17:14:01Z</dcterms:modified>
  <cp:revision>9</cp:revision>
  <dc:subject/>
  <dc:title>PowerPoint Presentation</dc:title>
</cp:coreProperties>
</file>